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AB4-C31E-4F38-9FE3-625226ED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519-4235-4910-882D-B1669FF1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E4E-CBCC-47AF-BC53-7D741B3D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953-6BAF-4C24-8A0C-6A6312B9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9C5-DE2D-46C2-A9EF-82BF0A2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FBC-DEE5-4ADA-A196-FDFD7F3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7D5-439C-47D6-B282-12DDF417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F79-128A-4425-AF28-9A9B3DAD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DE7-B92B-4083-BCF4-10649BE2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4BD-E086-4E83-A946-B6B57FA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26C-4B13-4024-84CA-FF6C174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71B-3E3C-457D-BD0A-5C17622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04D-9BA8-46FC-9B98-7856B69E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Writing Lesson Goals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4" name="Picture 5" descr="inverse proportion.gif"/>
          <p:cNvPicPr/>
          <p:nvPr/>
        </p:nvPicPr>
        <p:blipFill>
          <a:blip r:embed="rId1"/>
          <a:stretch/>
        </p:blipFill>
        <p:spPr>
          <a:xfrm>
            <a:off x="182520" y="2895480"/>
            <a:ext cx="8732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sense of the different purposes of questions related to the big ideas and the MATCH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connecting questions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backward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view Marian’s plenary on lesson goal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42840"/>
            <a:ext cx="8229600" cy="388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er or write and wipe review of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riting 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consolidating questions provided (with matching expec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Big Idea the question best connects to and write an appropriate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114800" y="4876920"/>
            <a:ext cx="4343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ley making question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course you are comfortable with, perhaps one you will be teaching in th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xpectation that is connected to one of the 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 PPQT (Posing Powerful Questions Template)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sson goa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ecta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g Ide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solidation ques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4267080" y="44956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e6f05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need to complete the Minds On and Action portion of the template at this point – we will work on these later in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template that you created with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uld your consolidating question be more Assessment of Learning or Assessment for Learning?  Why?  Would this always be the case for consolidat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8:54:23Z</dcterms:created>
  <dc:creator>Liisa Suurtamm</dc:creator>
  <dc:description/>
  <dc:language>en-US</dc:language>
  <cp:lastModifiedBy>Liisa Suurtamm</cp:lastModifiedBy>
  <dcterms:modified xsi:type="dcterms:W3CDTF">2010-08-10T23:45:19Z</dcterms:modified>
  <cp:revision>4</cp:revision>
  <dc:subject/>
  <dc:title>Writing Lesson Goals</dc:title>
</cp:coreProperties>
</file>